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FBFB-5FC7-48D3-B22F-D27249CE0F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645-FBA9-40E2-81AA-74378798E3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3E4-80C1-4F3D-962E-7E879A75C6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B3C-722A-4377-AAC3-71ED319072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EADA-BC44-40A8-B631-67FA9F99E9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176-2D5D-4906-A738-45FA70290B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2E80-0CD1-435E-8D69-0CAAC8301FD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00C0-3206-4B3B-9A8F-084C768448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922-9142-441C-A77D-9DE319BE63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68AD-E554-4F80-A2F0-28A9813799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92D-F196-4814-A431-1A9251D6C9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442-5422-486C-9E83-5EFF59FF87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6A3A-860C-40C5-A98D-E913D0F45A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D67-D2F8-4F62-A111-704B9D7CB2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853-A479-46F1-A495-976255DD5A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99E-720B-436B-A5F0-059F443DE2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176A-77B4-41C8-88AE-ACFBE12DDB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0C0-FC6F-4D1A-BD77-7689325A49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C3B-B6D4-4C89-A285-FAA4F306D4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F935-6BD3-4597-9F81-1F23FD8E24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09C-AE8A-489A-83DA-02069D1131A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509-2EB8-4BD7-B246-6897D5770F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671E-2336-45A2-A530-D8A3B3995A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51FB-137A-4756-A6E6-ED07DD9D26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C7A-DFDF-46EB-97F9-58EA60501E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B117-8C32-4B9E-A26D-E810872FC3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01D-CB95-463C-9EE7-5BBFAFE7BA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8EF7-BFCE-4584-93D2-9E1D71DA43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4A8-4B13-43A0-873C-DEC6B14999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33C-D468-4B38-A45F-314F3A8D3A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AF7-9A1E-403A-B518-E2F36433A8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B42D-CC7F-444C-A60F-69678F3A0D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170-94C1-47FA-97F9-1510BA66B6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152-3442-4D8A-A88B-FB17D81D30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F12-93D6-40CD-969F-EE93D9E5D2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0649-82E3-41F5-A017-8E3269F140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9FB-A32E-40D0-BE88-CB4EEE4DE3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468-65BE-41AB-AECE-4E77CA6B599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DE2-2A49-46EA-B783-69C0B03C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ED-97A5-4B73-9D97-125C17D1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139-AF37-4F4A-8B4A-6AA703D6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183-24B6-4A9A-948E-80F926B4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BEE-A4DD-445B-A3C7-96F00F3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E14-8FEC-4A40-8D5C-E7B55E1E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A75-2E3F-403A-B079-2F0BA043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8E5-DE78-4296-A801-23E5F88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561-6BAF-4AA9-8181-8C1AAE34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47F-B69B-4132-A4DC-B34D991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98F-5853-4811-8CC8-70FD382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A98-6275-4AF4-A9D6-834AB82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9F8-FEF1-4E23-8538-4B58FAAB21FE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ǐhua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아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羽毛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yǔmáoqi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드민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ú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축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óuyǒ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수영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今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n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올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ā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추측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将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ng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장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하고 싶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ā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yùndò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운동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yīshē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의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ny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중국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배우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렵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意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yìs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재미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hōum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주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旅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ǚx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행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ù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간호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ny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통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á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운동을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太极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50232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tàijíquán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태극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ch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노래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781320"/>
            <a:ext cx="6264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Zhōngguógē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중국 노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泡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pàoc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김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厨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ú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요리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대단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805440"/>
            <a:ext cx="6264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pīngpāngqiú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탁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할 줄 알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전수하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가르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nt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문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nqi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농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棒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bàngqi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야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6:17:04Z</dcterms:created>
  <dc:creator>System</dc:creator>
  <dc:description/>
  <dc:language>en-US</dc:language>
  <cp:lastModifiedBy>System</cp:lastModifiedBy>
  <dcterms:modified xsi:type="dcterms:W3CDTF">2014-01-24T06:53:43Z</dcterms:modified>
  <cp:revision>4</cp:revision>
  <dc:subject/>
  <dc:title>슬라이드 1</dc:title>
</cp:coreProperties>
</file>